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5506-18F5-4CC8-8539-EC5AE319E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5118-6B92-4539-B24D-325996212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D44D-F8AD-48A1-8DF7-79629094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620C-2616-4865-A4DA-D30CA2696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A0C76-2687-4C86-A103-5F887B4C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C835-5662-4668-8774-97E4777A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D3206-8240-4531-91D3-A43312DE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BA3B8-AFCF-4646-BF7D-DD7C358C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E188C-1C45-4062-A47C-9965D8F5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06384-549A-4AB4-9911-52472810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AA13E-78D8-47C6-8F3E-29DEADAE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AFD9-DC7D-4FC5-A884-76F600E64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29340-D289-42DD-AE80-C66E17E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0BDC0-3E38-4C90-ADA4-EB1B3C5C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926ED-3BB1-4500-8EB0-249CB2BB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C849-EE64-4DC0-8ED2-490E80D0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8D5DB-02AD-44B7-9600-A166633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BDB9-8A00-4F8B-AD07-305FDB9C9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DA28-9842-4380-A968-2E3314475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9BBA-7233-46AA-9B61-59E1F8DA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27A7-C266-4BA6-8660-78438C45C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106B-C6A6-4973-A9A6-866A6D23A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53B1-38F7-4B86-AAD3-9AFB915FF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DEEF-2D49-448F-9997-A47A3AEE0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8CE5-9242-4587-81E6-721126A8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1200" y="6535800"/>
            <a:ext cx="37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uthor, FAIR-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27640" y="6521400"/>
            <a:ext cx="326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28960" y="6540480"/>
            <a:ext cx="46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1C18-69A1-42B4-B919-FB67AA02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4840" y="803160"/>
            <a:ext cx="787392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60680" y="2487240"/>
            <a:ext cx="5551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50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53:23Z</dcterms:created>
  <dc:creator>schwicke</dc:creator>
  <dc:description/>
  <dc:language>en-US</dc:language>
  <cp:lastModifiedBy>kowina</cp:lastModifiedBy>
  <cp:lastPrinted>2002-09-19T14:00:30Z</cp:lastPrinted>
  <dcterms:modified xsi:type="dcterms:W3CDTF">2007-11-15T14:04:54Z</dcterms:modified>
  <cp:revision>8</cp:revision>
  <dc:subject/>
  <dc:title>Welcom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5381157</vt:r8>
  </property>
  <property fmtid="{D5CDD505-2E9C-101B-9397-08002B2CF9AE}" pid="3" name="_AuthorEmail">
    <vt:lpwstr>M.Schwickert@gsi.de</vt:lpwstr>
  </property>
  <property fmtid="{D5CDD505-2E9C-101B-9397-08002B2CF9AE}" pid="4" name="_AuthorEmailDisplayName">
    <vt:lpwstr>Schwickert Marcus</vt:lpwstr>
  </property>
  <property fmtid="{D5CDD505-2E9C-101B-9397-08002B2CF9AE}" pid="5" name="_EmailSubject">
    <vt:lpwstr>Vorträge MiniTAC</vt:lpwstr>
  </property>
  <property fmtid="{D5CDD505-2E9C-101B-9397-08002B2CF9AE}" pid="6" name="_ReviewingToolsShownOnce">
    <vt:lpwstr/>
  </property>
</Properties>
</file>